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417D-145E-4B27-8A26-D3E4607FE32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1063-B770-4A8F-828A-967BFCF9444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C284-7F74-4289-885C-8D7E6921622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8D7-3F6D-4BA3-A222-8088F7EA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A6C-3F29-4B0B-9DCB-C7C2CEFC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E7EF-DA54-4E90-AF86-A25EEB3E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204-EFEE-4814-BF72-693354D7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C17-2EC0-4BCC-8183-296AFE11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9BC-589D-4254-A530-9503329A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CE6-D530-4D6C-B6FF-E0F0144A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8CC0-3470-4021-A43B-2348AC91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3D9E-ADA4-436A-B5CF-6A37AB1C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A67-542E-4F3F-98A2-6300A30E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4F0-566F-4FE7-8C0C-73F1237B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D22-67BE-4695-952E-1CB00D5E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23E6-A209-4411-82B7-2757EF72C4F5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pl-PL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zamek królewski_W-Wa_akt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2" name="Text Box 4"/>
          <p:cNvSpPr/>
          <p:nvPr/>
        </p:nvSpPr>
        <p:spPr>
          <a:xfrm>
            <a:off x="6100920" y="63514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zamek królewski_W-Wa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" name="Text Box 7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227640" y="634032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zamek MAKBORK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0" name="Text Box 4"/>
          <p:cNvSpPr/>
          <p:nvPr/>
        </p:nvSpPr>
        <p:spPr>
          <a:xfrm>
            <a:off x="6156360" y="645804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zamek książ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4" name="Text Box 4"/>
          <p:cNvSpPr/>
          <p:nvPr/>
        </p:nvSpPr>
        <p:spPr>
          <a:xfrm>
            <a:off x="6192720" y="643896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msk</cp:lastModifiedBy>
  <dcterms:modified xsi:type="dcterms:W3CDTF">2019-08-14T22:01:43Z</dcterms:modified>
  <cp:revision>16</cp:revision>
  <dc:subject/>
  <dc:title>Slajd 1</dc:title>
</cp:coreProperties>
</file>